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746-15D2-4A13-B408-FF183EF6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13C-FAC7-4B89-91DE-42CE013B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CC5-3E5A-49C1-97E3-455F74D7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A248-11CB-4B9C-9A8F-D3646CFF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C75B-A361-455D-A554-ECBD4F5F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8D5-A589-4906-A567-8AF81174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548-0018-4130-BB0E-F70D5C7B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0D0-8F84-4FC0-8770-7B50517C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8F3-A29A-43D5-B5C9-293E4E9D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3CA-843B-42E8-A402-7C5C108F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701-4DC9-4A4B-AA9B-20D51855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DB1-FF35-47C0-A9E2-A4791D78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CD07-4A23-42DB-8688-5E5115066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LLOG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b your bellringer folder and do #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figure is a rectangle, then it is a parallelog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figure is a parallelogram, then its diagonals bisect each 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1030"/>
          <p:cNvGraphicFramePr/>
          <p:nvPr/>
        </p:nvGraphicFramePr>
        <p:xfrm>
          <a:off x="304920" y="4648320"/>
          <a:ext cx="1295280" cy="75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648320"/>
                    <a:ext cx="129528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figure is a rectangle, then it is a </a:t>
            </a:r>
            <a:r>
              <a:rPr b="0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parallelogra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figure is a </a:t>
            </a:r>
            <a:r>
              <a:rPr b="0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parallelogra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then its diagonals bisect each 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1027"/>
          <p:cNvGraphicFramePr/>
          <p:nvPr/>
        </p:nvGraphicFramePr>
        <p:xfrm>
          <a:off x="304920" y="4648320"/>
          <a:ext cx="1295280" cy="75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648320"/>
                    <a:ext cx="129528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Arial"/>
              </a:rPr>
              <a:t>If a figure is a rectang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then it is a parallelog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figure is a parallelogram, 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Arial"/>
              </a:rPr>
              <a:t>then its diagonals bisect each 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304920" y="4648320"/>
          <a:ext cx="1295280" cy="75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648320"/>
                    <a:ext cx="129528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f a figure is a rectangle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it is a parallelog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figure is a parallelogram,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h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ts diagonals bis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1024"/>
          <p:cNvGraphicFramePr/>
          <p:nvPr/>
        </p:nvGraphicFramePr>
        <p:xfrm>
          <a:off x="304920" y="4648320"/>
          <a:ext cx="1066680" cy="75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648320"/>
                    <a:ext cx="106668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5"/>
          <p:cNvSpPr/>
          <p:nvPr/>
        </p:nvSpPr>
        <p:spPr>
          <a:xfrm>
            <a:off x="1219320" y="43434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figure is a rectangle, then its diagonals bisec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w of Detach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0"/>
          <p:cNvGraphicFramePr/>
          <p:nvPr/>
        </p:nvGraphicFramePr>
        <p:xfrm>
          <a:off x="2511360" y="1981080"/>
          <a:ext cx="3206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1360" y="1981080"/>
                    <a:ext cx="3206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figure is a rectangle, then it is a parallelog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D is a rectang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304920" y="4648320"/>
          <a:ext cx="1295280" cy="75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648320"/>
                    <a:ext cx="129528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a figure is a rectang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then it is a parallelog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ABCD is a rectang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3"/>
          <p:cNvGraphicFramePr/>
          <p:nvPr/>
        </p:nvGraphicFramePr>
        <p:xfrm>
          <a:off x="304920" y="3581280"/>
          <a:ext cx="12952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581280"/>
                    <a:ext cx="1295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figure is a rectangle, then it is a parallelog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D is a rectang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024"/>
          <p:cNvGraphicFramePr/>
          <p:nvPr/>
        </p:nvGraphicFramePr>
        <p:xfrm>
          <a:off x="304920" y="4648320"/>
          <a:ext cx="1295280" cy="75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648320"/>
                    <a:ext cx="129528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4"/>
          <p:cNvSpPr/>
          <p:nvPr/>
        </p:nvSpPr>
        <p:spPr>
          <a:xfrm>
            <a:off x="1447920" y="46483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D is a parallelogra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w of Contraposit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0"/>
          <p:cNvGraphicFramePr/>
          <p:nvPr/>
        </p:nvGraphicFramePr>
        <p:xfrm>
          <a:off x="2989440" y="2133720"/>
          <a:ext cx="308736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9440" y="2133720"/>
                    <a:ext cx="308736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figure is a rectangle, then it is a parallelog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D 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parallelog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024"/>
          <p:cNvGraphicFramePr/>
          <p:nvPr/>
        </p:nvGraphicFramePr>
        <p:xfrm>
          <a:off x="304920" y="3657600"/>
          <a:ext cx="129528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129528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al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ment having an if and a t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 drove to school today, then I can give you a rid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figure is a rectangle, then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t is </a:t>
            </a:r>
            <a:r>
              <a:rPr b="0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a parallelogram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BCD is </a:t>
            </a:r>
            <a:r>
              <a:rPr b="1" i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not</a:t>
            </a:r>
            <a:r>
              <a:rPr b="0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 a parallelogra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1024"/>
          <p:cNvGraphicFramePr/>
          <p:nvPr/>
        </p:nvGraphicFramePr>
        <p:xfrm>
          <a:off x="304920" y="3657600"/>
          <a:ext cx="129528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129528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f a figure is a rectang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then it is a parallelog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D 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parallelog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1024"/>
          <p:cNvGraphicFramePr/>
          <p:nvPr/>
        </p:nvGraphicFramePr>
        <p:xfrm>
          <a:off x="304920" y="3657600"/>
          <a:ext cx="129528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129528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4"/>
          <p:cNvSpPr/>
          <p:nvPr/>
        </p:nvSpPr>
        <p:spPr>
          <a:xfrm>
            <a:off x="1371600" y="38098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D is </a:t>
            </a:r>
            <a:r>
              <a:rPr b="0" i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not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a rectang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685800" y="114300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ime to Practice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LOCK"/>
          <p:cNvPicPr/>
          <p:nvPr/>
        </p:nvPicPr>
        <p:blipFill>
          <a:blip r:embed="rId1"/>
          <a:stretch/>
        </p:blipFill>
        <p:spPr>
          <a:xfrm>
            <a:off x="3048120" y="2666880"/>
            <a:ext cx="3063600" cy="3148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533520" y="45720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 the following examples, use the given law of syllogism to draw the correct conclusion from the set of premise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533520" y="380880"/>
            <a:ext cx="822960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.  If frogs fly then   toads tal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ogs fl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-----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762120" y="5486400"/>
          <a:ext cx="76176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86400"/>
                    <a:ext cx="76176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w of Detach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1447920" y="1981080"/>
          <a:ext cx="5333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5333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33520" y="380880"/>
            <a:ext cx="822960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.  If frogs fly then   toads tal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ogs fl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-----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762120" y="5486400"/>
          <a:ext cx="76176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86400"/>
                    <a:ext cx="76176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3520" y="380880"/>
            <a:ext cx="822960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.  If frogs fly then   toads tal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ogs fl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-----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ads tal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762120" y="5486400"/>
          <a:ext cx="76176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86400"/>
                    <a:ext cx="76176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33520" y="457200"/>
            <a:ext cx="769608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.  If hens heckle then crows don’t car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ows car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w of Contraposit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2286000" y="2133720"/>
          <a:ext cx="44956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133720"/>
                    <a:ext cx="44956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se- switch the hypothesis and the 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al Statement:  If I drove to school today, then I can give you a rid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e:  If I can give you a ride home, then I drove to school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verse is not necessarily true. It might be, but doesn’t have to 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33520" y="457200"/>
            <a:ext cx="769608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.  If hens heckle then crows don’t car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ows car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533520" y="457200"/>
            <a:ext cx="769608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.  If hens heckle then crows don’t car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ows car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ns don’t heck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685800" y="685800"/>
            <a:ext cx="746748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.  If ants don’t ask then flies don’t fre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ts don’t as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----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w of Detach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1447920" y="1981080"/>
          <a:ext cx="5333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5333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85800" y="685800"/>
            <a:ext cx="746748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.  If ants don’t ask then flies don’t fre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ts don’t as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----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85800" y="685800"/>
            <a:ext cx="746748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.  If ants don’t ask then flies don’t fre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ts don’t as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----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ies don’t fre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04920" y="457200"/>
            <a:ext cx="88390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.  If Dave dives then Cal cav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f Cal caves then Hank hik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---------------------------------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aw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of Syllogis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1828800" y="1981080"/>
          <a:ext cx="5791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81080"/>
                    <a:ext cx="5791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04920" y="457200"/>
            <a:ext cx="88390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.  If Dave dives then Cal cav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f Cal caves then Hank hik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---------------------------------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04920" y="457200"/>
            <a:ext cx="88390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.  If Dave dives then Cal cav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f Cal caves then Hank hik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---------------------------------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f Dave dives then Hank hik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dict the hypothesis and 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al Statement:  If I drove to school today, then I can give you a rid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e:  If I didn’t drive to school today, then I can’t give you a rid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verse is not necessarily true. Might be, but doesn’t have to 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685800" y="533520"/>
            <a:ext cx="777240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 If dogs duel then rats wrest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ats don’t wrest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------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w of Contraposit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2286000" y="2133720"/>
          <a:ext cx="44956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133720"/>
                    <a:ext cx="44956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685800" y="533520"/>
            <a:ext cx="777240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 If dogs duel then rats wrest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ats don’t wrest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------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685800" y="533520"/>
            <a:ext cx="777240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 If dogs duel then rats wrest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ats don’t wrest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---------------------------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gs don’t due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133720" y="2057400"/>
            <a:ext cx="5181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y does this one work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ere are the premise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3078000" y="2133720"/>
          <a:ext cx="29098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0" y="2133720"/>
                    <a:ext cx="29098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place with contrapositiv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3"/>
          <p:cNvGraphicFramePr/>
          <p:nvPr/>
        </p:nvGraphicFramePr>
        <p:xfrm>
          <a:off x="3078000" y="2133720"/>
          <a:ext cx="29098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0" y="2133720"/>
                    <a:ext cx="29098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4"/>
          <p:cNvGraphicFramePr/>
          <p:nvPr/>
        </p:nvGraphicFramePr>
        <p:xfrm>
          <a:off x="5791320" y="2209680"/>
          <a:ext cx="2895480" cy="8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2209680"/>
                    <a:ext cx="28954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5"/>
          <p:cNvSpPr/>
          <p:nvPr/>
        </p:nvSpPr>
        <p:spPr>
          <a:xfrm>
            <a:off x="5715000" y="2209680"/>
            <a:ext cx="3048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place with contrapositiv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64040" y="2133720"/>
          <a:ext cx="273816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4040" y="2133720"/>
                    <a:ext cx="273816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4"/>
          <p:cNvGraphicFramePr/>
          <p:nvPr/>
        </p:nvGraphicFramePr>
        <p:xfrm>
          <a:off x="2819520" y="2209680"/>
          <a:ext cx="3047760" cy="8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209680"/>
                    <a:ext cx="304776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2743200" y="2209680"/>
            <a:ext cx="3429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Use Law of Detatchment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3201840" y="2133720"/>
          <a:ext cx="266076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1840" y="2133720"/>
                    <a:ext cx="266076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4"/>
          <p:cNvGraphicFramePr/>
          <p:nvPr/>
        </p:nvGraphicFramePr>
        <p:xfrm>
          <a:off x="2819520" y="2209680"/>
          <a:ext cx="3047760" cy="8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209680"/>
                    <a:ext cx="304776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w of Contraposit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2286000" y="2133720"/>
          <a:ext cx="44956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133720"/>
                    <a:ext cx="44956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pos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 the hypothesis and conclusion and negate bo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al Statement:  If I drove to school today, then I can give you a rid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positive:  If I can’t give you a ride home, then I didn’t drive to school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trapositive of a true conditional statement is ALWAYS tr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62120" y="914400"/>
            <a:ext cx="7696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yllogism: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A set of statements called </a:t>
            </a: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premises,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ich lead to one logical conclusi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066680" y="838080"/>
            <a:ext cx="6629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f the premises are true, (and we assume they are), then the conclusion 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be true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57200" y="83808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(Note:  This symbol means “Therefore”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5715000" y="3200400"/>
          <a:ext cx="2133720" cy="26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200400"/>
                    <a:ext cx="213372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4"/>
          <p:cNvSpPr/>
          <p:nvPr/>
        </p:nvSpPr>
        <p:spPr>
          <a:xfrm>
            <a:off x="380880" y="266688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t signals the conclusion.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aw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of Syllogis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2938320" y="1981080"/>
          <a:ext cx="3570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8320" y="1981080"/>
                    <a:ext cx="357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1:29:59Z</dcterms:created>
  <dc:creator>Salem Teacher</dc:creator>
  <dc:description/>
  <dc:language>en-US</dc:language>
  <cp:lastModifiedBy>BeasoA</cp:lastModifiedBy>
  <dcterms:modified xsi:type="dcterms:W3CDTF">2010-09-28T13:29:58Z</dcterms:modified>
  <cp:revision>19</cp:revision>
  <dc:subject/>
  <dc:title>LOGIC:</dc:title>
</cp:coreProperties>
</file>